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A34-6858-43FD-9944-9903DAAD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6AE-D2AA-4981-BED4-A9B754EE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35F-DE21-4B12-82F1-BD20656E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62A-18C8-4A2F-9529-067696C1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90B2-049B-407A-B3BB-31D5EFB5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2792-17BB-4123-A9B5-AAFBD2E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13A6-9457-438A-B158-99E7F37D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B170-9D26-44F6-8B5A-2509AA27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CB6A-9309-43A2-8584-F3D2B9C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65920" cy="80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24FA-88C4-4E97-BD7B-C6937D56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9B6-3DEC-403B-A339-8D63AB3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A5F-A33A-4D0C-9A6C-8240AA34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D251-2691-457B-BC66-4D95A69A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63E5-40E2-4B33-B20A-59FDBBE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55B6-290E-4CB9-BB70-64CEE61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7716-8463-45AD-917A-B1034CD4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E6A3-C0CC-413A-86BF-D288477D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A12-B504-4E05-996E-71311D3E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B30-0319-4CBB-A49C-26D5DF5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B1F-E844-4B71-BBB8-F9DEA328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65920" cy="80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36C-B23C-4805-AB04-D8290BFF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06B-BB01-4A30-8514-255B60C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663-BFAC-4902-876D-DB83F47D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CA8-D4E1-4149-9BCA-60D99E3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1EB15-FA17-4DF7-A3BE-F34266BFB8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1E868-7934-4BA5-A9AB-BA8878AF7BA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ur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this meant to happ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e ages to n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can we tel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ee r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di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e bubbl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533840" cy="4533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e We The Caus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leting the Atmosphe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erosol c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side bu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fi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57840" y="3200400"/>
            <a:ext cx="4286160" cy="3705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70040" y="1295280"/>
          <a:ext cx="7459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95280"/>
                    <a:ext cx="74595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810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rrent Stakehold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1124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tis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(small) inhabit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uris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43480" y="3419640"/>
            <a:ext cx="3800520" cy="343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opin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le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e togeth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Antarctica - Its People, Cities, History and Culture.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NTENCE - The Fictions of Ralph Robert Moo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3 May 2010. &lt;http://www.ralphrobertmoore.com/arc-government.html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Melting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GreenDaily.co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3 May 2010. &lt;http://www.blogcdn.com/www.greendaily.com/media/2008/01/1-global-warming-antarctica-melting-550.jpg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Antarctica - Global warming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ol Antarctica, pictures of Antarctica, information and travel guid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3 May 2010. &lt;http://www.coolantarctica.com/Antarctica%20fact%20file/science/global_warming.htm&gt;. `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10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686560" y="3124080"/>
            <a:ext cx="3457440" cy="3733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486400" y="0"/>
            <a:ext cx="3276720" cy="315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124080" y="3200400"/>
            <a:ext cx="2954520" cy="3809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er only study cam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ly, only scienti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habitants of the 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3819600"/>
            <a:ext cx="3333600" cy="2809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and Econo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1652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political part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electio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n-exis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lunteer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is no economic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Fishing and Touri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Antarctican doll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81800" y="5029200"/>
            <a:ext cx="1976400" cy="1316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uris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tific resear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ls may only be hunted by perm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ling bann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4622760"/>
            <a:ext cx="3195720" cy="2235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 in averag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038480" cy="4198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the Greenhouse Effec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8400" y="1199880"/>
            <a:ext cx="83818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mperature ris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ts trap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eenhouse gas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s earth liv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86080" y="2924280"/>
          <a:ext cx="585792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924280"/>
                    <a:ext cx="585792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over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5:42:06Z</dcterms:created>
  <dc:creator>Kayla</dc:creator>
  <dc:description/>
  <dc:language>en-US</dc:language>
  <cp:lastModifiedBy>Kayla</cp:lastModifiedBy>
  <dcterms:modified xsi:type="dcterms:W3CDTF">2010-06-03T15:42:29Z</dcterms:modified>
  <cp:revision>8</cp:revision>
  <dc:subject/>
  <dc:title>Global Warming </dc:title>
</cp:coreProperties>
</file>